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2F2-1C08-451B-8356-9BF2B7C6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10B-9C68-4409-B504-AA50AE2D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FDE-789F-4B85-98B1-46311E36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E57-A010-4433-969D-80777D40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E66C-65EF-4FC3-AF1B-16277E1A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5541-ED4E-4C12-91DC-AD3B6626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6B06-7583-463E-B6FB-6F022FFE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10FA-7456-46A1-986B-05367E7E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8835-494E-45F2-A3FC-1F1999BA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6816-D34F-448C-AA05-A19D8CA4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E192-1238-4BA5-8A50-A9718B4E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D8A-F987-47CD-803D-BDCBE19C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E196-6D9F-4A60-9882-63634B48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A6FB-DC37-4FE6-B1B1-94F044A9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83D0-9EA2-496E-B746-C3BFDBB2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7DBE-E3A7-4F9F-A8A0-34FB8129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CDA2-918B-43E5-BB63-C494ACFE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9B2A-4C00-46B5-8255-75879D2F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84CF-131E-46E1-845F-902E2AF9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B87A-A917-4952-A9E0-E3149BBE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1D60-2C00-4B37-A5CB-C0C3F4D5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1C10-1998-440D-B6CB-D2C11886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AF6-1B24-4276-9709-0E8D030E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9A4CB-3F19-4E20-929C-6B3C8266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4F58-36E1-40B3-AD49-AAEC63EC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D00F-E48C-410B-8FA0-AC5BB7CC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FBC16-10AA-4E02-823E-61C1371D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0E35-3507-43D6-9062-50945CAA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20355-4398-45BC-BF26-DDD38EC2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F83B9-C67A-4410-93A1-D1F39374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1BB7C-870B-47E5-8856-2D24F6B4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3B212-53C3-47B6-8F9C-5E6EE1C9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40939-E677-4225-A3B6-FE069AC0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5BD-E337-483C-9C40-E940DAE9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8F4C8-D1F9-43D9-85A4-595A9D53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54458-3285-4EB6-9E34-8A8F8E21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4D12-D891-4A18-BB66-65D9FCA1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F8EA6-F05B-4951-9A70-2753BE2E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3C82B-8352-43F0-8479-6A5F96C2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B841B-72ED-4E59-92DD-3E5F7A8A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452F9-3B70-4BBF-B752-4139575C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A4FCC-D757-4D21-8B4F-4B1958D1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0FF7C-ACEF-447C-B6D1-A56D5C58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1F434-E96D-4E0B-8254-E9D8F6AF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112-C850-4E4D-BA99-7542C5A8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C103F-1C81-4BB2-AF30-2E735ABB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C73B9-EDE8-4919-966D-9116F5D0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EA195-1DB1-46EC-B097-AE960770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C4214-937A-4862-91D3-00ABB491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681A1-A56C-44FE-90D6-6CC6C40E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C4FE5-C5C4-4910-AF2F-4F60959B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7B167-E7C6-4A6F-A9A6-773223A8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FEC5F-1F9A-4D8D-8F67-AD5336DD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A3DB4-5C79-4851-B9BA-57B9C597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2A957-23FE-4516-8B79-A2F20EA6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58D-A09D-4657-8747-6D84F54D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B7D7C-CCC6-4BAF-9688-63A78068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4462E-512C-495A-924B-A9FDC6DF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F6BF9-0549-477B-A897-52EFEFD7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1DBA7-D043-4997-8499-6090FAE5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A608A-1EAB-4D9C-9C9A-349BC98B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407A6-5BEB-47F9-8E1F-240A519E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20319-2A34-457A-A911-BCABABAB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C8D5E-7D00-4FAF-B2FD-585CD5E6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13A47-A402-409A-94C6-8950DED4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960FB-C080-4BD6-B2C9-3C3B8CE8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537-B203-4304-9AA7-115F0981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40A88-E399-4893-B71F-699C67C6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EE68-4A5E-4EC0-A9CF-19E8D2C4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42801-567F-4D3E-9207-C06B3B63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3C8-E4AC-4869-A2F6-655BEF96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1DB-1AD4-4865-AE8F-30D5D59C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42AB-6EFC-45E7-B20F-A5742AE979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79C3-043A-461E-8FC7-200A05E387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DAD4-FB04-4FB9-ACD3-970416CC735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C5D-8BA7-429D-924B-2151756088C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9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0277-51E3-48E9-A1C1-91282A07742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3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C1EF-91CF-4275-8481-3EC75085F5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ТЕМА: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ФИНАНСЫ НЕДВИЖИМОСТИ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вансов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19280" y="2421000"/>
          <a:ext cx="6192720" cy="25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421000"/>
                    <a:ext cx="61927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АВНЫМИ ДОЛЕВЫМИ ВЗНОСАМ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68360" y="1773360"/>
          <a:ext cx="8153280" cy="425448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АВНЫМИ ЧАСТЯ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1828800"/>
          <a:ext cx="8218440" cy="4370400"/>
        </p:xfrm>
        <a:graphic>
          <a:graphicData uri="http://schemas.openxmlformats.org/drawingml/2006/table">
            <a:tbl>
              <a:tblPr/>
              <a:tblGrid>
                <a:gridCol w="863640"/>
                <a:gridCol w="1655640"/>
                <a:gridCol w="1800360"/>
                <a:gridCol w="2255760"/>
                <a:gridCol w="16430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етоды оценки, используемые при определении размера залога по ссуд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капитализированных доход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реальной стоимост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сопоставительной стоимости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8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нвестиции в недвижим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окупность затрат материальных, трудовых и денежных ресурсов, направленных на расширенное воспроизводство основных фондов с определенной цел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Возможные цели инвестирова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дох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хран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монетарные цели (укрепление имиджа фирмы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принятии решения по инвестициям в недвижимость необходимо учитывать следующее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это долгосрочное отвлечение денежных средств из 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я предполагает отвлечение из оборота значительных сум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 недвижимости низка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– это альтернатива существующе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вин В.А. Кредитование инвестиционных проектов: Рекомендации для предприятий и коммерческих банков – М.: Финансы и статистика, 2003 – 204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жимость/Эл. учебное пособие. – М.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D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200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альцман. А.И. Оценка инвестиционных проектов и предприятий – М.: Инфра- М,  2004 – 156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раев В.О. Экономическая оценка инвестиций. Электронное учебное пособие.- Оренбург, ОГАУ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Основные этапы принятия решений по инвестиция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ановка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ение ц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вариантов решения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ценка вариа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одного варианта из нескольких альтернатив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дели расчетов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Статическ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затр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прибы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срока окупаем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имущества и недостатки статических моделей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еимущест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сты для использо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требуют больших затрат на сбор и обработку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достатк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учитывается временная структура поступлений и выпл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всегда обеспечивается сопоставимость инвестиционных альтернат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равнительная смета затра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службы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оя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ме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равнительный анализ прибыл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одительность установки, ед. в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реализация, руб. за е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учка от реализаци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1.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 и срока окупаемост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84464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ортизация, 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нтабельность, в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Динамические модели расчет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основанный на стоимости капитала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аннуитет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Подробно будут изучены в разделе «доходные методы оценки объектов недвижимости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редлагаемом примере рассматриваются как особые случаи общих динамических моделей, как концептуальные подх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цепция неполного финансового плана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ТЫС. РУБ.)</a:t>
            </a:r>
            <a:br>
              <a:rPr sz="2000"/>
            </a:b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95280" y="1268280"/>
          <a:ext cx="8089920" cy="5197680"/>
        </p:xfrm>
        <a:graphic>
          <a:graphicData uri="http://schemas.openxmlformats.org/drawingml/2006/table">
            <a:tbl>
              <a:tblPr/>
              <a:tblGrid>
                <a:gridCol w="2027160"/>
                <a:gridCol w="935280"/>
                <a:gridCol w="936360"/>
                <a:gridCol w="1079640"/>
                <a:gridCol w="1081080"/>
                <a:gridCol w="1079640"/>
                <a:gridCol w="950760"/>
              </a:tblGrid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мент време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данной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тто-платежи обездвижены, что не соответствует принципам экономической целесообраз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учитываются реальные возможности предприятия по финансированию проек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ие денежные потоки не приведены к текущей стоимости вло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цепция полного финансового плана на примере проекта 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1828800"/>
          <a:ext cx="8153280" cy="4195800"/>
        </p:xfrm>
        <a:graphic>
          <a:graphicData uri="http://schemas.openxmlformats.org/drawingml/2006/table">
            <a:tbl>
              <a:tblPr/>
              <a:tblGrid>
                <a:gridCol w="2093760"/>
                <a:gridCol w="1224000"/>
                <a:gridCol w="1297080"/>
                <a:gridCol w="1224000"/>
                <a:gridCol w="1224000"/>
                <a:gridCol w="109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воначальный капитал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 , т. руб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.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едит, 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1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2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3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ечный капитал, 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ы к изучени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эффективности инвестиций в недвиж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ругие формы финансирования недвижимости. Девелоп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рахование недвижим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возможно устранить субъективный фактор при выборе вариантов дополнительных инвестиционных прое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ая стоимость не приведена в соответствие с текущей стоим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    эффективности инвестиций в недвижим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готовительный этап оценк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Формируется реальный денежный поток по периодам реализации проекта, как поток поступлений и платежей по трем основным направлениям деяте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дственн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онная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Выводится итоговое сальдо денежного потока по периодам реализации проекта, используемое далее в расчетах показателей эффектив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Оценка инвестиционных проектов с учетом временного фактора основана на использовании следующих показателей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контированный срок окупаем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ый дисконтированный доход ЧДД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ка доходности проекта (СДП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утренняя ставка доходности проект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ифицированная СДП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П финансового менедж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сконтирование денежного пото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340000" y="1628640"/>
                <a:ext cx="46083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Тс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Д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826920" y="3716280"/>
            <a:ext cx="777744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, 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ируемый (будущий) дох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ущая стоимость будущего дох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ножитель настоящей (текущей) сто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ка дисконтир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реализации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сходные данны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оимость приобретаемого оборудования – 2 млн.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 оборудования – 5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истые доходы по периодам реализации проекта составили в тыс. руб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– 4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 10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– 12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– 160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– 18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вка дисконтирования –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асчет срока окупаемос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8229600" cy="472932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коплен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6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+ (108 : 916) = 3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едостатки показател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 расчетах игнорируются доходы, получаемые после предполагаемого срока окупаемост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ля анализа инвестиционного портфеля предполагаются дополнительные расчет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ула расчет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P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835280" y="3076560"/>
                <a:ext cx="5699160" cy="22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, Vj - в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j - ис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 - множитель настоящей стоимос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счет показателя ЧДД (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р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 + 756 + 788 + 916 + 894 = 3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тый дисконтированный доход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02 – 2000 = 1702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едостатки показателя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солютное знач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 сравнительном анализе проектов не учитывает объема вложений по каждому проек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результаты существенное влияние оказывает применяемая ставка дисконтир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уровня риска проводится достаточно субъектив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нутренняя ставка доходности – это ставка дисконтирования, приравнивающая сумму приведенных доходов от проекта к величине инвестиций</a:t>
            </a:r>
            <a:br>
              <a:rPr sz="32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37720" y="3117600"/>
            <a:ext cx="377532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870280" y="3357720"/>
                <a:ext cx="300204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лияние ставки дисконтирования на ЧДД (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819520"/>
                <a:gridCol w="1079280"/>
                <a:gridCol w="1152720"/>
                <a:gridCol w="1079280"/>
                <a:gridCol w="1079640"/>
                <a:gridCol w="101916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вка дисконтирования,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ДД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V)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рный приведенный поток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Расчет внутренней ставки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      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0       5+Х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8       4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2000          5 – (5+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 = 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1788            5 – 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= 37,4        ВСДП= 5+37,4 = 42,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авка доходности проек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бор оптимального проекта основан на оценке эффективности единицы затрат, что позволяет сравнивать проекты, различающиеся по величине затрат и доход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 примеру искомый прое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70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=  -------- = 1,8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льтернативный проек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9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2= --------- = 1,6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достаток:  зависимость результата расчета от избранной ставки дисконтир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Модифицированная ставка 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в проект предполагается осуществлять поэтапно, и временно свободные денежные средства размещены в иных проектах, сроки окупаемости которых совпадают с началом нового этапа финансирования искомого проек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онтирование этих потоков осуществляется по безопасной ликвидной став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кущая стоимость проекта рассчитывается с учетом этих денежных пото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тавка доходности финансового менеджмен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олагается, что все высвобождаемые в ходе реализации инвестиционного проекта денежные средства направляются на финансирование новых инвестиционных проектов исходя из политики предприятия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оценке проекта в целом рассчитывают среднюю или, так называемую, «круговую» ставку доходности будущих инвести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Вопрос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353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 НЕДВИЖИМ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Деятельность, связанная с развитием территории, включающая подготовку земель и проведение строительных, инженерных  и иных операций с недвижимостью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Девелопмент, как управление инвестиционным проектом включает в себ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бор экономически эффективного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учение всех необходимых разрешений на его реализацию от органов вла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ение условий привлечения инвестиций, разработка механизмов и форм их возвра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иск и привлечение инвестор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бор подрядчиков, финансирование их деятельности и контроль за их работо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ализация созданного объекта недвижимости или передача его в эксплуотац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акторы, определяющие ипотечный кред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рок действ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ь финансир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ид обеспечения кредит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 строительстве – целевое использование средст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ценка стоимости (размер кредита зависит от стоимости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евелопер и его функции по реализац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Девелопер – тот, кто организует создание объекта в наилучшем месте таким образом, что позволяет вернуть инвестированные в него ресурсы и получить прибыл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Функции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возможности реализации проекта развития недвижим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условий осуществления проекта и разработка бизнес-плана его реализаци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Реализация проекта развития недвижиом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возможности реализации проекта развития недвижимости предполагает изуче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енденции экономического развит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остояние налоговой и финансовой систем регион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едложение и спрос на недвижимость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можного и наиболее выгодного места реализации проект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условий осуществления проекта и разработка бизнес-плана его реализации предполагае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физических возможностей реализации проекта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затрат на реализацию проекта и возможных источников финансирования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олучение разрешения госорганов и подготовка позитивного мнения общественн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роведение переговоров с собственником земли, согласование условий перехода земли под застройку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Реализация проекта предполагает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финансовых ресурс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подрядных проектных и строительных организаций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рганизация финансирования строительства и контроль за его ходом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одажа (передача) объекта в эксплуатацию, возврат вложенных средст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ПРОДАЖА В РАССРОЧКУ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ЮНИТИЗАЦИЯ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- РАЗДЕЛЕНИЕ СОБСТВЕННОСТИ НА МНОЖЕСТВО ДОЛЕЙ И ПОЛУЧЕНИЕ ПРИБЫЛЕЙ ОТ ВЛАДЕНИЯ ЕДИНИЦЕЙ СОБСТВЕННО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СЕКЬЮРИТИЗАЦИЯ-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ЫПУСК ОБЛИГАЦИЙ КАКОЙ ТО КОМПАНИЕЙ ИЛИ РАСПРЕДЕЛЕНИЕ ДОЛЕЙ В ПОРТФЕЛЕ ЦЕННЫХ БУМАГ ПАЕВОГО ТРЕСТ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ИМЕР ТАКИХ ЦЕННЫХ БУМА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ЕРТИФИКАТ ДОХОДА НА НЕДВИЖИМОСТЬ (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) –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ЕЛИКОБРИТ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ИЗВЛЕКАЕТ ВЫГОДУ В ФОРМЕ ЧАСТИ ОТ ДОХОДА И ПРИРОСТА КАПИТАЛЬНОЙ СТОИМОСТИ НЕДВИЖ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НЕ СТАНОВИТСЯ СОБСТВЕННИКОМ НЕДВИЖИОМ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Е ОБЛАГАЕТСЯ ПОДОХОДНЫМ НАЛОГОМ И НАЛОГОМ НА ПРИРОСТ КАПИТАЛЬНОЙ СТО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речень обстоятельств, от наступления которых традиционно страхуется недвижимое имуще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емлетрясение, оползень, обвал, буря, ураган, наводнение, град, ливень, затопление, оседание почвы, морозы и снегопады, необычные для данной местности, действие подпочвенных вод, удар молни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жар, взрыв, технические аварии, техногенные аварии и катастрофы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оникновение воды из соседнего помещения, повреждение имущества водой из водопроводных, канализационных и противопожарных систем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правомерные действия третьих лиц, кража со взлом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ущественные условия договора страхования недвижимост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имущество, являющееся объектом страх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характер события, на случай наступления которого осуществляется страхование (страхового случая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размер страховой суммы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срок действия договор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раховое свидетельство должно содержать следующие данные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15364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 докумен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, юридический адрес и банковские реквизиты страховщ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амилию, имя, отчество или наименование страхователя и его адре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объекта страх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й су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страхового риска (риск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го взноса, сроки и порядок внесения страховых прем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рок действ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рядок изменения и прекращен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писи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щи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знакомить страхователя с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случае проведения страхователем мероприятий, уменьшивших риск наступления страхового случая и размер возможного ущерба застрахованному недвижимому имуществу, либо в случае увеличения его действительной стоимости перезаключить по заявлению страхователя договор страхования с учетом этих обстоятельст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и наступлении страхового случая выплатить страховое возмещение в установленный договором или законом ср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озместить расходы, которые понес страхователь при наступлении страхового случая для предотвращения или уменьшения ущерба застрахованному имуществу, если возмещение таких расходов предусмотрено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е разглашать сведения о страхователе и его имущественном положении, за исключением случаев, предусмотренных законодательств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арианты определения процента  и способы погашения креди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твердом проценте на весь срок действия (банк должен получить рефинансирование на твердых условиях)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переменном проценте. Для клиента появляется возможность удешевления финансирования. Для банка преимущество - условия процента могут быть согласованы с издержками на рефинансировани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ател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воевременно вносить страховые взнос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 заключении договора страхования сообщить страховщику о всех известных ему обстоятельствах, имеющих значение для оценки страхового риска, а также о всех заключенных или заключаемых договорах страхования в отношении данного объекта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нимать необходимые меры для предотвращения и уменьшения ущерба застрахованному недвижимому имуществу при наступлении случая и сообщить страховщику о наступлении страхового случая в сроки и согласованной форме, установленные договором страх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нования для отказа страховщика произвести страховую выплат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умышленные действия страхователя, которыми вызывается наступление страхового случая или умышленное преступление, находящегося в прямой причинной связи со страховым случае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Законом могут быть предусмотрены случаи освобождения страховщика от выплаты страхового возмещения при наступлении страхового случая вследствие грубой неосторожности страховател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сообщение страхователем страховщику заведомо ложных сведений об объекте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получение страхователем соответствующего возмещения ущерба по имущественному, страхованию от лица, виновного в причинении этого ущерб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153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оговор страхования прекращается в случаях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течения срока дейст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нения страховщиком обязательств перед страхователем договора в полном объ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уплаты страхователем страховых взносов в установленные договором сро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иквидации страховщ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нятия судом решения о признании договора страхования недействитель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ругих случаях, предусмотренных законодатель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потечный кредит и его основные характеристик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статические и динамические модели расчетов при принятии решения о выборе варианта реализации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ассмотрены основные показатели экономической эффективности инвестиционных проек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нструменты используемые для финансирования недвижим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ано определение и показаны основные этапы девелопм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ХЕМЫ ПОГА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ЧАСТЯМ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ДОЛЕВЫМИ ВЗНОСАМИ (АННУИТЕТ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ЕГРЕССИВНАЯ СХЕМА ПОГАШЕ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ПРОГРЕССИВНА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ННУИТЕТНЫЕ ПЛАТЕЖ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ВРАТ ДЕНЕЖНЫХ СРЕДСТВ В ВИДЕ СЕРИИ РАВНОВЕЛИКИХ ПЛАТЕЖЕЙ, ВКЛЮЧАЮЩИХ СУММУ ПОГАШЕНИЯ И ПРОЦЕНТО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ычн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692360" y="2421000"/>
          <a:ext cx="568800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6880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06:54:47Z</dcterms:created>
  <dc:creator>Джораев</dc:creator>
  <dc:description/>
  <dc:language>en-US</dc:language>
  <cp:lastModifiedBy>Джораев В.О.</cp:lastModifiedBy>
  <dcterms:modified xsi:type="dcterms:W3CDTF">2007-02-09T18:30:20Z</dcterms:modified>
  <cp:revision>22</cp:revision>
  <dc:subject/>
  <dc:title>ТЕМА: ФИНАНСОВЫЕ АСПЕКТЫ НЕДВИЖИМОСТИ</dc:title>
</cp:coreProperties>
</file>